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7DC-018B-4D60-ABFA-A7E71F31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218-5FA5-4EC8-81F9-EBA5E037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D2A-79E5-4EBC-816A-21EAE3C6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838-093D-4551-AB7E-403E3BEE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B25-F46C-4C7E-ACEF-724AC94A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3AD-5097-421C-A134-130CA6A7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026-C0FC-441A-8555-9CDBFD98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968-3C6E-4CDB-B4E9-02563791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055-4051-4648-955C-C269037B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B77-0401-4E0F-8DA5-6E0451A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457-122D-4AB0-A70E-B6BA9DD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854-EE4D-4715-8592-9D11DFA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345F-97D4-42FA-8C6C-924ABE800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TION OF MAGS STAFF ERO REVIEW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AGEMENT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066680"/>
          <a:ext cx="8610480" cy="1123920"/>
        </p:xfrm>
        <a:graphic>
          <a:graphicData uri="http://schemas.openxmlformats.org/drawingml/2006/table">
            <a:tbl>
              <a:tblPr/>
              <a:tblGrid>
                <a:gridCol w="7432560"/>
                <a:gridCol w="1177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ts of structural 'engagement in learning' changes needed - impact of th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 eng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of students wellbeing - since 'ambulance at the bottom' men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itoring of student engagement - consequences for unengaged/disruptive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228600" y="2438280"/>
            <a:ext cx="85345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 suggest three things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nking  - Term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-operative Learning -  Ter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eedback - Term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 believe that we can measure some base line data with staff as far as their classroom activites are concerned.This data can be gahtered at a staff meeting but staff need to be able to unpack the questions first. A mixture of closed and open responses. This same tool can be used to measure staff post the 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3EF-17A1-4C56-A364-B9CF53B298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IATION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762120"/>
          <a:ext cx="8610480" cy="1752480"/>
        </p:xfrm>
        <a:graphic>
          <a:graphicData uri="http://schemas.openxmlformats.org/drawingml/2006/table">
            <a:tbl>
              <a:tblPr/>
              <a:tblGrid>
                <a:gridCol w="7434000"/>
                <a:gridCol w="117648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tering for individual needs -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 on level 1 achievement/link to more suitable courses for lower achie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ing them at their level in ways that they relate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ing individual needs - this is why we have stream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does 'meeting individual needs' really mean? Are we not meeting the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2590920"/>
            <a:ext cx="86104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ow long can ‘one size fit all’ work for all les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fferentiation can occur through COURSE DESIGN,  CONTENT, PROCESS or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erhaps the Thinking tools are the way to differentiate? E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nking maps, Think-Its, Thinkers’ Keys are all ways that demand different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RO are going to ask us what we are doing for our Gifted and talented as well as our Pasifika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F64-A545-4426-90E2-4CF5CD6ACC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TIVES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762120"/>
          <a:ext cx="8610480" cy="1123920"/>
        </p:xfrm>
        <a:graphic>
          <a:graphicData uri="http://schemas.openxmlformats.org/drawingml/2006/table">
            <a:tbl>
              <a:tblPr/>
              <a:tblGrid>
                <a:gridCol w="7434360"/>
                <a:gridCol w="1176120"/>
              </a:tblGrid>
              <a:tr h="29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tives aimed at lifting at risk student achie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tives have begun well. Praised for their vari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tives aimed at lifting at risk student achie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ing required to analyse why new initiatives are taking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28600" y="3352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981080"/>
          <a:ext cx="8610480" cy="1397160"/>
        </p:xfrm>
        <a:graphic>
          <a:graphicData uri="http://schemas.openxmlformats.org/drawingml/2006/table">
            <a:tbl>
              <a:tblPr/>
              <a:tblGrid>
                <a:gridCol w="7477200"/>
                <a:gridCol w="1133280"/>
              </a:tblGrid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uka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uka project - good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uka Project - keep developing t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has promoted initiatives eg Manuka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king of Manuka students needs a pathway through the entire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304920" y="3657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Manuka classes need to be to a certain extent experi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19F-056B-4F27-A559-529B2F1198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" y="685800"/>
          <a:ext cx="8686800" cy="2452680"/>
        </p:xfrm>
        <a:graphic>
          <a:graphicData uri="http://schemas.openxmlformats.org/drawingml/2006/table">
            <a:tbl>
              <a:tblPr/>
              <a:tblGrid>
                <a:gridCol w="7499520"/>
                <a:gridCol w="1187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Asttle to build from what we k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suring that data collected is used correctly not at the bottom of a briefcase or department back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rporate asttle into year's programme to measure growth/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lay/dissemination of studen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ata about the retention and atten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gathering and analysis specifically from students, of their experien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3352680"/>
            <a:ext cx="8763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cellent comments particularly when we add how much we have learnt about asttle this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gathering project with local Intermediate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 most important question 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hat is the purpose of gathering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E22-9CB8-4726-84BA-CFF7A8C9BC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OF PROGRAMM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lestone using baseline data, during and at mileston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2438280"/>
          <a:ext cx="8534520" cy="1752840"/>
        </p:xfrm>
        <a:graphic>
          <a:graphicData uri="http://schemas.openxmlformats.org/drawingml/2006/table">
            <a:tbl>
              <a:tblPr/>
              <a:tblGrid>
                <a:gridCol w="7367760"/>
                <a:gridCol w="1166760"/>
              </a:tblGrid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y how well or how poorly the initiatives are wo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itoring academic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 need a methodology to measure the success of the program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tions systems in place but not if evaluation is done of effective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veral interventions but no definitive measuring of these or a timeframe for measuring th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0" y="42670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me links to DATA gath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f we make changes we need to measure them and know how to do that before we st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DA0-1E19-4752-93ED-5979B789BD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to staff goal this year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3623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280" y="990720"/>
          <a:ext cx="8763120" cy="1371600"/>
        </p:xfrm>
        <a:graphic>
          <a:graphicData uri="http://schemas.openxmlformats.org/drawingml/2006/table">
            <a:tbl>
              <a:tblPr/>
              <a:tblGrid>
                <a:gridCol w="7715520"/>
                <a:gridCol w="1047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olvement of students in the feedback/assess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-way conferen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explicit feedback of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much feedback to departments on analysis of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8600" y="3124080"/>
            <a:ext cx="8686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se are all positives but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o individual teachers need some techniq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nks to data gathering techniques in an NCEA environment and also …  links to student voice if you consider a range of different types of data: Feedback Surveys, Questionnaires, Qualitative, Quantitative, Ach. St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FBA-667F-445F-A654-D8600F2FAE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INVOLVEMENT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762120"/>
          <a:ext cx="8686800" cy="3720960"/>
        </p:xfrm>
        <a:graphic>
          <a:graphicData uri="http://schemas.openxmlformats.org/drawingml/2006/table">
            <a:tbl>
              <a:tblPr/>
              <a:tblGrid>
                <a:gridCol w="7499520"/>
                <a:gridCol w="1187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unity lin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ult with community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agement of parents with their students’ education, monitoring of homework diaries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ing contact/relationships with Pacific famil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ra workload placed on staff to initiate/respond to parental comm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ent invol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ll don't see the parents that we want to s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 to translators for communication assistance with 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S parents has much untapped potent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ent involvement in sport/cultural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llage mentoring - What is this exactl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llage mentoring Initi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mention of parental involvement/inclusion in pastoral care - mention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80880" y="480060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s is a big issue when we consider the number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GS Parents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B86-B9BF-4500-A8E1-0665EA963B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FIKA 1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685800"/>
          <a:ext cx="8763120" cy="3112920"/>
        </p:xfrm>
        <a:graphic>
          <a:graphicData uri="http://schemas.openxmlformats.org/drawingml/2006/table">
            <a:tbl>
              <a:tblPr/>
              <a:tblGrid>
                <a:gridCol w="7545600"/>
                <a:gridCol w="121752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ing teachers' awareness of Pacifica teaching and learning sty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a student voice/ surveys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 the numbers coming to Polynesian parent mee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consultation contact with pacific 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feedback from Pacific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information on Pacific students within the school available to staff and to track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positive male Pacifica role 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 Liaison needs to be more proactive in discussing with teachers regarding Pacific students' achie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s lack of background knowledge of Pacific students culture and their Intermediate school achiev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C84-BEFB-4CB9-AD54-F1809FD42B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FIKA 2 milest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641520"/>
          <a:ext cx="8610480" cy="2730240"/>
        </p:xfrm>
        <a:graphic>
          <a:graphicData uri="http://schemas.openxmlformats.org/drawingml/2006/table">
            <a:tbl>
              <a:tblPr/>
              <a:tblGrid>
                <a:gridCol w="7434360"/>
                <a:gridCol w="1176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 of Samoan language as a su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 X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2 and 3 Pacifica students achieving well above national aver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 X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Pacific students attending HW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Pacific students taking part in cultural and sporting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 Liaison Officer/ pastoral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 X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a Literacy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lot of Pacific parents not involved in students'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data analysis on attendance/retention of Pacific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teaching knowledge/training on Pacific learning Sty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 number of Pacific students attending the centre due to the fact they are underachi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CAC-B7B2-479F-BD6D-DCA18C5683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FIKA 3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838080"/>
          <a:ext cx="8686800" cy="1600200"/>
        </p:xfrm>
        <a:graphic>
          <a:graphicData uri="http://schemas.openxmlformats.org/drawingml/2006/table">
            <a:tbl>
              <a:tblPr/>
              <a:tblGrid>
                <a:gridCol w="7499160"/>
                <a:gridCol w="1187640"/>
              </a:tblGrid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inks with Pacific 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 students coming to school to essentially play S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oan classes? Useful? Achiev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ll not catering sufficiently for the needs of Maori/Pacifica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 don't know anything about our Pacific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920" y="3886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e already have links to Pasifika parents and Pasifika teachers. We need to build on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0EB-A58A-4157-9C1B-B32BF6B938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uggesting that we set up targets and goals over a three-year period that do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lign what we do with our strategic plan (and the 5 year teacher development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ign what we do with the timeline of the next ERO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C8C-D927-43FB-8190-DC0BD754B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T 1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280" y="685800"/>
          <a:ext cx="8763120" cy="3594240"/>
        </p:xfrm>
        <a:graphic>
          <a:graphicData uri="http://schemas.openxmlformats.org/drawingml/2006/table">
            <a:tbl>
              <a:tblPr/>
              <a:tblGrid>
                <a:gridCol w="5986440"/>
                <a:gridCol w="2776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projectors fixed to ceiling in all r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to assess the use of computers in terms of learning outcomes more access to various websites for teachers eg Youtube and Video cli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'Enabling the 21st century lea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access to compu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admin help for my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effort to engage different groups of 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of teaching (E-learning and myclasses) provide opportunities to report 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grading of facilities and resources to enable more teachers to be able to use a range of teaching strate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opportunities to up skill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ICTs to avoid excessive use of 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793-D072-46F3-BE38-E46DFCF9DE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T 2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762120"/>
          <a:ext cx="8686800" cy="2438280"/>
        </p:xfrm>
        <a:graphic>
          <a:graphicData uri="http://schemas.openxmlformats.org/drawingml/2006/table">
            <a:tbl>
              <a:tblPr/>
              <a:tblGrid>
                <a:gridCol w="7499160"/>
                <a:gridCol w="1187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ter coverage of ICT skills in Junior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tion of computers so that they can be used effective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 to more computers per student eg double the number of computers in classr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ing each department of who does what for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ep developing myclasses - use counters on all p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lasses is good but not all students can access it due to blocking because they are si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line resources - help for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57200" y="51814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se link to a wide range of the other hea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lready an ICT strategic group has been sugg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80B-3E55-4445-891B-966F682579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T 3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609480"/>
          <a:ext cx="8763120" cy="3732480"/>
        </p:xfrm>
        <a:graphic>
          <a:graphicData uri="http://schemas.openxmlformats.org/drawingml/2006/table">
            <a:tbl>
              <a:tblPr/>
              <a:tblGrid>
                <a:gridCol w="7566120"/>
                <a:gridCol w="119700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know how effective use of ICT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suring pod use is optim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lasses not really helping some students - extra admin for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all students have internet access at h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ail in terms of asking questions of students, teachers, emailing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-mail needs to be developed further. Lists given to staff Kamar for th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sure MOE action plan is implem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lasses - keep helping teachers to devel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line resources - help for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website and parent for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uter room between each department - not whole school trying to share 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 want to use email/internet as first point for research/communication/information - generation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3FC-15EE-4643-BF15-99B3DB63F8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SIZES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447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914400"/>
          <a:ext cx="8686800" cy="1905120"/>
        </p:xfrm>
        <a:graphic>
          <a:graphicData uri="http://schemas.openxmlformats.org/drawingml/2006/table">
            <a:tbl>
              <a:tblPr/>
              <a:tblGrid>
                <a:gridCol w="7499520"/>
                <a:gridCol w="118728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uka project is stymied by over-large 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in classes with roll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04920" y="3657600"/>
            <a:ext cx="8458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early a concern for some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does research s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ale’s paper interesting but important to keep in mind the other pressures that we place on staff who teach five sets of 30 in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596-2117-427A-96A1-BF855343E9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CENTRE/GUIDANCE - milest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1337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219320"/>
          <a:ext cx="8610480" cy="2209680"/>
        </p:xfrm>
        <a:graphic>
          <a:graphicData uri="http://schemas.openxmlformats.org/drawingml/2006/table">
            <a:tbl>
              <a:tblPr/>
              <a:tblGrid>
                <a:gridCol w="7432560"/>
                <a:gridCol w="11779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network extensive - external and inte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Guidanc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seling services - students and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seling services - students: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sure impact of pastoral care and how to measure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 Centre as a central location for all pastoral bo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4920" y="533412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s was impressiv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ow do we build from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F37-51FC-40A3-860F-2BD1D05574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1337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85800"/>
          <a:ext cx="8610480" cy="2362320"/>
        </p:xfrm>
        <a:graphic>
          <a:graphicData uri="http://schemas.openxmlformats.org/drawingml/2006/table">
            <a:tbl>
              <a:tblPr/>
              <a:tblGrid>
                <a:gridCol w="7434360"/>
                <a:gridCol w="11761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od practice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of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of teaching - teachers to continue to grow through PD and support from Snr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of teaching - teachers to continue to grow through PD with support from Senio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 benefit from effective teaching in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mo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28600" y="457200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n coaching and mentoring be a model to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n we observe each other m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n we give each other mor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66B-6465-4C83-8399-F78BDEA971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0880" y="762120"/>
          <a:ext cx="8305920" cy="2457360"/>
        </p:xfrm>
        <a:graphic>
          <a:graphicData uri="http://schemas.openxmlformats.org/drawingml/2006/table">
            <a:tbl>
              <a:tblPr/>
              <a:tblGrid>
                <a:gridCol w="7170840"/>
                <a:gridCol w="1135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ategies for motivating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PD for staff and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tivation of students - up to date help not just detention-based punish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motivation as students control pace of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surement of student engagement with learning - intrinsic moti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teacher PD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ed 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fessional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facilitation of learning needs to keep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8035920" y="624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486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nks to a whole raft of the other h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24B-CAB4-4793-AB68-68F617B13D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3716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457200"/>
          <a:ext cx="8534520" cy="2981160"/>
        </p:xfrm>
        <a:graphic>
          <a:graphicData uri="http://schemas.openxmlformats.org/drawingml/2006/table">
            <a:tbl>
              <a:tblPr/>
              <a:tblGrid>
                <a:gridCol w="7016760"/>
                <a:gridCol w="1517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 Successmaker and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teway systems for students wanting to leave in  a positive light not a as a drop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 the validity and success of Successmaker and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teway has been listed as support for students that are underachieving but is supposed to be an alternative pathway for students exploring the world of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teway programme for students ready to leave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cessmaker and Gateway need to be measured for their efficacy. If they work, extend them. If results are minimal put the energy elsew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O is questioning the value of Successmaker and Gateway in the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teway is being used for underachieving students when it is not supposed to be the case and is 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542-26B2-4AB7-AF58-8309C89709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focus on goals that will address both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 FROM LAST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HIEVEMENT - Milestone year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ACHIEVEMENT - Milestone year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VOICE Milestone sub-group of SMT gather info FEEDBACK 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S WAY Milestone - link to new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HAVIOUR - Milestone - other initiatives will help eg Resilie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IPLINE - Milestone - other initiatives will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EMENT Milestone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itiatives will help:  THINK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-OPERATIVE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ERENTIATION Milestone - other initiatives will help: THINK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-OPERATIVE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- Mile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R PART OF WHAT WE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IVES - Milest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ALUATION OF PROGRAMMES Milest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INVOLVEMENT Milestone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IFIKA Milestone  ALL THREE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T - Milestone  ALL THREE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SIZES - Miles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ING - Milestone ALL THREE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NATIVE PATHWAYS - Milestone 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902-5DC8-4635-847A-BE4AD2EF7B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62120"/>
          <a:ext cx="8610480" cy="2533680"/>
        </p:xfrm>
        <a:graphic>
          <a:graphicData uri="http://schemas.openxmlformats.org/drawingml/2006/table">
            <a:tbl>
              <a:tblPr/>
              <a:tblGrid>
                <a:gridCol w="7456320"/>
                <a:gridCol w="1154160"/>
              </a:tblGrid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el 1 achievement well below national average x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el 1 results below 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achieving the same as other school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achieving at level 1 especi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ove national average for L2 and L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use of external achievement to monitor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 at level 2 and 3 are achieving well above the national 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reads well but are we really helping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underachiev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tudent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HIEVEMENT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0958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50532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rect link to underachievemen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target should include those students who are f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5CE-471D-4399-B372-E4A59B047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ACHIEVEMENT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810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219320"/>
          <a:ext cx="8458200" cy="1447560"/>
        </p:xfrm>
        <a:graphic>
          <a:graphicData uri="http://schemas.openxmlformats.org/drawingml/2006/table">
            <a:tbl>
              <a:tblPr/>
              <a:tblGrid>
                <a:gridCol w="7302240"/>
                <a:gridCol w="115596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suring that underachieving students do have adequate interventions in place to prevent falling through the cra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we don't succeed in lifting underachievers, all the initiatives of 2006 will end up in areas of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achieving by some groups compared to other groups in the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52280" y="2819520"/>
            <a:ext cx="86108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is was based on 2006 data 2007 data needs to be factored (another reason to set targets in the New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n we look at our successful students and see what they do as models for those who are underachieving? ie a RESILIENCE mode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er tutoring Y13 of Y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cademic Institute Y13 meet with Y10 and Y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196-D963-44A8-AFD7-0C07741C30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VOICE Mile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337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609480"/>
          <a:ext cx="8382240" cy="2067120"/>
        </p:xfrm>
        <a:graphic>
          <a:graphicData uri="http://schemas.openxmlformats.org/drawingml/2006/table">
            <a:tbl>
              <a:tblPr/>
              <a:tblGrid>
                <a:gridCol w="6139080"/>
                <a:gridCol w="2243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links to student vo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courage more positive opinions from students and staff towards MA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elings about the school from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ening to the students and their needs at all levels not just Y13 - maximise school council effective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voice for students' feel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portunities for students to contribute ideas about aspirations and challenges are fe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04920" y="2819520"/>
            <a:ext cx="85341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ere can students have an opportunity to have their s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udent council, student newspaper, myclasses, environment group, feedback to teachers, prefects, organising events (Fluoro Days), Music, Performing Arts,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ow can we put structures in place? Student Council? ‘The Roar’? myclasses? Special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764-9ACB-428E-9674-A5A98B8A7E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S WAY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6765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685800"/>
          <a:ext cx="8686800" cy="1676520"/>
        </p:xfrm>
        <a:graphic>
          <a:graphicData uri="http://schemas.openxmlformats.org/drawingml/2006/table">
            <a:tbl>
              <a:tblPr/>
              <a:tblGrid>
                <a:gridCol w="7412040"/>
                <a:gridCol w="1274760"/>
              </a:tblGrid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S Way is +ve and reinforced through different aven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inforcing MAGS 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ing of values - buy-in by staff/students/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inforcing MAGS 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tting up posters does not make it real. Build relationships. Who is not in the poster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52280" y="243828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haps the MAGS Way is a vehicle for increased student voice? Eg Respect the Environment could be a vehicle for students to have their voice heard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ach MAGS Way principle can be given to students to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A02-278C-44A8-817C-F4785ADBDE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- mile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685800"/>
          <a:ext cx="8763120" cy="2819520"/>
        </p:xfrm>
        <a:graphic>
          <a:graphicData uri="http://schemas.openxmlformats.org/drawingml/2006/table">
            <a:tbl>
              <a:tblPr/>
              <a:tblGrid>
                <a:gridCol w="7564320"/>
                <a:gridCol w="1198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management system needs to be based on current research and is not evaluated for effective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expectations/statistics - no info - stand-downs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iveness of systems to change behav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nsion between control and resp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our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04920" y="3657600"/>
            <a:ext cx="8610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ood example of differing perceptions by staff about behaviour -  probably needs to be unpacked further - paticularly in the light of the next slide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we benchmark the negative comments  and try the positive strategies, these sorts of feedback can be gathered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8CD-2BE7-4DCD-870D-07ACC0D4E7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IPLINE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914400"/>
          <a:ext cx="8686800" cy="1295280"/>
        </p:xfrm>
        <a:graphic>
          <a:graphicData uri="http://schemas.openxmlformats.org/drawingml/2006/table">
            <a:tbl>
              <a:tblPr/>
              <a:tblGrid>
                <a:gridCol w="7499520"/>
                <a:gridCol w="118728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 discipline methods to be implem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says discipline is good but feeling is that it is not an effective system - long way to 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flict between traditional disciplinarian model and a culture of respect that the MAGS Way is meant to be reinfor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80880" y="4038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s links to BEHAVIOUR to the MAGS WAY, to student engagement and to moti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7B6-D608-4CCA-A5C4-04FF1E092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45:21Z</dcterms:created>
  <dc:creator>John Pipe</dc:creator>
  <dc:description/>
  <dc:language>en-US</dc:language>
  <cp:lastModifiedBy>John Pipe</cp:lastModifiedBy>
  <cp:lastPrinted>2007-11-05T01:45:17Z</cp:lastPrinted>
  <dcterms:modified xsi:type="dcterms:W3CDTF">2010-06-27T07:27:24Z</dcterms:modified>
  <cp:revision>22</cp:revision>
  <dc:subject/>
  <dc:title>COLLATION OF ERO REVIEW COMMENTS</dc:title>
</cp:coreProperties>
</file>